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1EB-1C7F-45A0-AFAE-4E9578C9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38E2-411A-4D78-B9AC-D0A389C6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C0B-3105-4F96-A95C-ED5C6874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E4F-1616-498D-B253-0AD18C86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274F-D1B6-428D-8976-B32096C1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B83B-A883-4826-805F-178EDAC6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5428-7109-4367-88FF-8A7A72C0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CA8C-66C9-4CED-954F-670A0A18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9B8F-1BC3-41D1-A6E8-69008275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14DB-B34B-4991-8FEC-FDF66FAF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1932-6E69-40F1-9837-6E5A9C47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797-C96C-4DAB-8CC3-710641B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1141-FF6E-4994-B30C-045827F9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6905-B0A7-41E0-BB28-2D0388D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1E3E-73A2-49AC-8521-7B44EA3D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FA7C-ADF1-4152-A28C-B334ED8E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5863-719C-4736-A2C0-47E3EC06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5213-EDE6-4714-B599-ECD278EF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4171-F33F-408F-A6BE-78B1DE1B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59A5-F177-4F44-A6EB-EA916187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61C5-2B10-4B2D-B735-8D97BF9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23ECF-BEFE-44C6-9BE4-8E033393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F8D-C56B-431B-91FB-CD8DB1A3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B16A-F9E6-47E3-BF07-CBE178D9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6D57-809E-4ED0-A6B0-E05D4C45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F9F3-EC4B-448D-AEF4-DC74733B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8A90-92BB-4525-BDF1-79A34EA8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7375-6C29-4954-9EBA-EC7F0B6A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9968-BE3B-4854-B0E0-BD941229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4CE1-34C9-4188-B658-7DE64C86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CCC2-6F85-425B-91AB-4F95351C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63DBD-BCFF-42B4-8CE1-F50E602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E39E-7AED-4FD4-8E7D-37DEE6F9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DCB-597D-4EF3-A628-D7F73BA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CA710-F510-485C-8D56-9E31C5AF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2E10-CEC5-4601-BBC2-D27832CE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BDDE-14EE-4A6D-A2CA-844A7D48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5950-DF06-4304-9A73-FE630C7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99C6B-C354-462E-BECC-0F6AB1C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8EA0D-D76A-40A7-B329-DDAF27C2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F009-DF79-4A99-BA71-7CF673D9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EB745-AFE7-4424-9561-1DA0250D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B9AC-3AED-4091-AC67-867FE1F8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FA7F2-C16B-4B52-95DA-1F4C7631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8B7-589F-477D-A21F-18905C01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2C994-17D8-410A-AB4A-80020F2E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687D-4273-4A53-87B1-C572B980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D2184-2779-45B5-BF59-052D306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E9FD-211B-4FA9-B617-D88860E0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3718A-C80F-456A-BC4F-92C8CED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0E35-5436-477E-A3AF-E23AD965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C1954-AC31-41D4-9127-0C80FECC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0B58-103A-46C7-B51C-250EC8A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56781-4D84-466D-8284-35453228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F1FBE-BCFB-4E74-8804-485FF80F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D98-72C0-4C38-95EF-FB421E6C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D3EE9-ECFD-4913-B159-C6E79333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88E-4744-40F8-A161-F7F3188E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252-7A67-4F17-A319-AA0B4C9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249-5FB7-4001-AD12-4E7F2A4A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57BF-E140-40D6-9965-377208809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1947-9BF7-45DA-8954-47F1F2208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4967-635E-4DDE-94F1-2574A16C2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05D8-641B-42F4-93B4-39787FDBC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0EE1-B1E9-4A45-9C3E-A049418BA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urlz MT"/>
              </a:rPr>
              <a:t>Economia </a:t>
            </a:r>
            <a:r>
              <a:rPr b="0" lang="en-US" sz="5400" spc="-1" strike="noStrike">
                <a:solidFill>
                  <a:srgbClr val="99cc00"/>
                </a:solidFill>
                <a:latin typeface="Curlz MT"/>
              </a:rPr>
              <a:t>verde</a:t>
            </a:r>
            <a:r>
              <a:rPr b="0" lang="en-US" sz="5400" spc="-1" strike="noStrike">
                <a:solidFill>
                  <a:srgbClr val="ffffff"/>
                </a:solidFill>
                <a:latin typeface="Curlz MT"/>
              </a:rPr>
              <a:t>: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urlz MT"/>
              </a:rPr>
              <a:t>Ai participa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urlz MT"/>
              </a:rPr>
              <a:t>Combaterea poluar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Prezentare realizata de ele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urlz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urlz MT"/>
              </a:rPr>
              <a:t>Nita Roxana Ma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urlz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urlz MT"/>
              </a:rPr>
              <a:t>Clasa: a X-a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urlz M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urlz MT"/>
              </a:rPr>
              <a:t>Liceul: Ion Heliade Radul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orte"/>
              </a:rPr>
              <a:t>Metode de combatere a poluarii aerul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mbria"/>
              </a:rPr>
              <a:t>In combaterea poluarii aerului se porneste de la principiul ca “maximul se poate realiza la sursa “. Aceasta in sensul ca reducerea evacuarilor de poluanti si a pierderilor de la sursa sunt in acelasi timp masuri preventive, de limitare a poluarii aerului si masuri care vizeaza valorificarea integrala a materiilor prime. Retinerea substantelor reziduale pentru valorificarea complexa a materiei prime este si mult mai usor de realizat decat dupa ce acestea s-au ejectat in atmosfera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mbria"/>
              </a:rPr>
              <a:t>Pentru a realiza o productie nepoluanta exista mai multe posibilitati: alegerea sau pregatirea unur materii prime fara impuritati , spalarea combustibililor, ermetizarea instalatiilor in care se desfasoara procese de productie generatoare de pulberi si gaze, dirijarea pulberilor si gazelor spre instalatiile de epurare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orte"/>
              </a:rPr>
              <a:t>Masurile pentru protectia aerulu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exploatarea rationala a instalatiilor tehnologice selectionate pentru o anumita productie ca fiind ca fiind cele mai putin poluant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recuperarea si valorificarea substantelor reziduale utilizabil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amplasarea surselor de poluare bazata pe un studiu stiintific al consecintelor pe care le are situarea intr-o anumita ambianta geoclimatic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mbria"/>
              </a:rPr>
              <a:t>adoptarea de sisteme si mijloace de transport cat mai putin polua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Poluare a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cc33"/>
                </a:solidFill>
                <a:latin typeface="Cambria"/>
              </a:rPr>
              <a:t>Mentinerea puritatii apei in cadrul natural inseamna mentinerea continutului de saruri si gaze, de organisme si microorganisme specifice unei ape naturale nealte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Poluantii aflati in ape sub forma de suspensii sau solutii multicomponente se pot incadra in urmatorele categorii mai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substante organice, reziduri biolog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substante anorgan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substante radioact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produse petroli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microorganisme patoge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mbria"/>
              </a:rPr>
              <a:t>- ape fierbint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Combaterea poluarii a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Cambria"/>
              </a:rPr>
              <a:t>Starea de poluare a apelor poate fi controlata si redu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Cambria"/>
              </a:rPr>
              <a:t>Primul grup de procedee se caracterizeaza printr-o “maniera de conducere preventiva” si include toate metodele care urmaresc limitarea evacuarii de reziduri in a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Cambria"/>
              </a:rPr>
              <a:t>Inca din faza de proiectare a instalatiilor industriale, de transport, edilitare etc. , trebuie adoptata o conceptie care corespunde unei orientari diametral opuse fata de cea veche, caracterizabila lapidar prin ideea “apa spala tot”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be0e3"/>
                </a:solidFill>
                <a:latin typeface="Cambria"/>
              </a:rPr>
              <a:t>In al doilea grup de procedee se incadreaza diferitele metode de epurare ale apelor uzat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be0e3"/>
                </a:solidFill>
                <a:latin typeface="Cambria"/>
              </a:rPr>
              <a:t>Apele uzate trebuie sa fie supuse unor tratamente prin care sa se inlature incarcarea lor cu poluanti pana la o lim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46800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Cambria"/>
              </a:rPr>
              <a:t>Dar indiferent de felul poluarii, si de locul unde o regasim (aer, apa…) este mult mai usor s-o prevenim decat s-o combatem. Si asta depinde numai de noi, oamenii !!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07:20:52Z</dcterms:created>
  <dc:creator>roxy</dc:creator>
  <dc:description/>
  <dc:language>en-US</dc:language>
  <cp:lastModifiedBy>roxy</cp:lastModifiedBy>
  <dcterms:modified xsi:type="dcterms:W3CDTF">2012-05-19T08:48:46Z</dcterms:modified>
  <cp:revision>2</cp:revision>
  <dc:subject/>
  <dc:title>Slide 1</dc:title>
</cp:coreProperties>
</file>